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9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A642-4693-4933-9ED8-1D694C1654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icture: Birzeit University, Pal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 beliefs: how patients access services, participate in treatment decisions and their social context all influence the management of chronic conditions and are important for health outcomes (Saks &amp; Allsop 200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 review of the relevant literature is also being undertaken, to set the context for this piece of work re: the health policy, health interventions and epidemiological work in the 4 partner countries plus Egypt, Jordan, Algeria and Morocc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2DC5-5A95-4519-80EC-319EBD50428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CC66-A367-408B-9660-48C1D6D0203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C2BF-F314-49A9-A141-356ECAD3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25C5-3BC7-4DBE-8A33-98533DB8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8D73-CDD1-44D4-A31D-F0EE6978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A591-F53A-44F0-B512-E987433A2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27D7-6E4B-4909-803F-AC595A2A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819B-899E-4842-B5D0-9908AD54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80063-1871-4125-820E-6AD3A6D7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2C101-53F2-4099-8457-9DBA2CA1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D076-DB73-4427-B005-64F7C9EE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FC6EE-6E4B-44A7-B67E-0083231F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8066-BC6F-4BB9-8887-74EBD637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04AF-BD61-4333-A94F-AF9CCDB2D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8F089-A018-4932-ABB6-E04DCD6B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2798-B719-434C-A869-70FE4A94A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7010-59DE-4273-94BE-2F131D53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30C9F-75A6-4BC6-97F6-D4426991A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DE34E-1EC6-461B-AD73-4359EF9EA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9347C-8EC6-46FE-8BF6-611540374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9E88E-2723-44F9-9253-96C3A807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C595D-77EC-468E-9C67-E99F08AEB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055ACE-C612-4E11-BB88-6F26409D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A55B1-238F-4404-88DD-DA89BC31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6EAC-7EB3-48DB-BB9C-F0EDD8B49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AB658-C6AC-4187-BA1C-43F4F9D20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5F954-7BD0-4BFE-9048-904FD0B2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85CFF-9383-4C98-9A4D-1BC202B3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80400-6A6E-4AC2-A1CD-8CCD0566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2389F-1429-487D-8FC7-0D42C1F9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58DD7-7D67-42C6-B8B4-4C30E56C5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62CC0-FEF0-408A-8836-3013E7DDA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5CF65-B61B-4FF9-807E-2C528F1EF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AF4F0-CF4B-4A67-AC07-5D0C664B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4872D-10AD-4BC0-B968-4328FC4D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36C7-EAF2-4008-A402-8A18AAC1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A0D25-3311-4FC5-8A83-2BD6F88A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79A80-EFF2-4C7B-98E9-21C841E0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91DC2-D273-41AD-B04A-B082C4AC5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EE8AA-EB84-439D-B730-E003546D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62726-7A42-4B52-BCC2-E2838DC5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59291-79B1-48C2-BE16-CDB95FE4A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30AD9-9A99-4C7F-A31C-FE704C78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F0713-0AB4-487A-B422-DC6523655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52C6F7-8831-4338-8AB0-F9713463E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9846C-9990-4AF4-8905-A70C5AAF3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B552-5929-4C9C-B05D-193FD903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28724-66D0-43F7-A79C-DE252D37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12491-9535-4577-AABD-51A3E1D3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9B98AC-A262-4E15-8D5C-5358E599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42360-BBAD-4058-8804-00FAFCA4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F707C-6C44-4DFE-9CBB-C622204E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DB5DF-26C6-4A99-A7C5-E9EFCDD9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A220B-B718-422C-AE3C-32ABAE7F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9B533-F805-4909-8742-3D5F0C2A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445BF6-F26C-434A-9EEC-9EA545D8F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CA320-9EB3-4653-8FC2-CF1184A43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B301-A055-4994-9C0D-36AF6F51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FC15C-708C-4663-BCF3-0C87C7459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6604E-C436-4AAA-AA47-4431A98CB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094F0-DDB4-46BC-A121-FC9ADCB42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C98D9-519A-45FE-A2A3-318367FF3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29537-D75A-4CDB-844B-D9969848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A3EBE-1245-47E3-9502-61CA984F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FF8A9-C7CE-4F54-8C12-C3A26480B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7D763-D9EC-4A18-990B-B6E4E0D5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D71F0C-D298-4C47-98A4-03C3E2F9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81A01-947C-48FC-A738-ACEAECE6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7F50-CA68-4E22-862D-F77BEF13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216AA-5BAF-491A-B79E-056B4FB7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C6A35-B6A4-44B1-943C-802CDDBE8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C1717-C042-4DBB-AA3A-603EAA6F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77CDD-EBF0-4F43-95ED-D2A9B352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07C82-4C43-4991-848E-8FEE7C6B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2D33D-B40B-42B9-851D-2F2C76CC7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BB011-48E0-4D39-95F1-5DA89979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CC1F0-BBE4-4920-BADF-D85680687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FA0AB-27F3-439D-86C1-0F0DA783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FC6EA-4A88-43A3-ACA1-32CF07F9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8733-745D-4B74-832B-6FD919D1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CACA61-D1AA-48C2-A43F-AB0BA256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B0249E-CA62-44E4-B564-C4D60D26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92DD5-1A11-4D02-BF37-B2293A2D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4FCBE4-208A-4C0A-AC0F-DA07ABD8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EA8348-FC8D-49CF-A068-D618DFFA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835C-2E25-4E72-A65E-AF6CF293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374E7-5715-4B4B-8B80-FEDE4CF27901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3CB7-F70C-4CBF-A24B-8597270F392E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4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8F97-0096-44F4-ADD3-FD6A234F6604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1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58716-D35A-4463-A387-963697E618AF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7584-2F80-4C4E-9D12-AA342D4A4D94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0" name="Group 15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2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0E86-533B-4C95-9F24-F8F97A103DF9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Group 15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25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0813D-3E15-410E-8F32-E9992EFDF6CA}" type="slidenum">
              <a:rPr b="0" lang="en-GB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Health Policy Analysis Conceptual Framework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Shahaduz Zaman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andara"/>
              </a:rPr>
              <a:t>Newcastle University, UK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Diagram 1" descr=""/>
          <p:cNvPicPr/>
          <p:nvPr/>
        </p:nvPicPr>
        <p:blipFill>
          <a:blip r:embed="rId1"/>
          <a:stretch/>
        </p:blipFill>
        <p:spPr>
          <a:xfrm>
            <a:off x="0" y="109440"/>
            <a:ext cx="903456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Diagram 1" descr=""/>
          <p:cNvPicPr/>
          <p:nvPr/>
        </p:nvPicPr>
        <p:blipFill>
          <a:blip r:embed="rId1"/>
          <a:stretch/>
        </p:blipFill>
        <p:spPr>
          <a:xfrm>
            <a:off x="10944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Diagram 1" descr=""/>
          <p:cNvPicPr/>
          <p:nvPr/>
        </p:nvPicPr>
        <p:blipFill>
          <a:blip r:embed="rId1"/>
          <a:stretch/>
        </p:blipFill>
        <p:spPr>
          <a:xfrm>
            <a:off x="176040" y="255600"/>
            <a:ext cx="864396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Diagram 1" descr=""/>
          <p:cNvPicPr/>
          <p:nvPr/>
        </p:nvPicPr>
        <p:blipFill>
          <a:blip r:embed="rId1"/>
          <a:stretch/>
        </p:blipFill>
        <p:spPr>
          <a:xfrm>
            <a:off x="23760" y="0"/>
            <a:ext cx="914400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n Example of using Policy triangle framework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Mediterranean studies of Cardiovascular diseases and Hyperglycaemia: analytical Modelling of Population Socio-economic transitions </a:t>
            </a:r>
            <a:r>
              <a:rPr b="0" i="1" lang="en-GB" sz="2400" spc="-1" strike="noStrike">
                <a:solidFill>
                  <a:srgbClr val="ff0000"/>
                </a:solidFill>
                <a:latin typeface="Candara"/>
              </a:rPr>
              <a:t>(MEDCHAMPS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veloping a CVD and diabetes model for use within the project countries, in order to explain trends and predict likely future impact of diseases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73e87"/>
                </a:solidFill>
                <a:latin typeface="Candara"/>
              </a:rPr>
              <a:t>Defining the national policy context and characterising the health system for developing  policy options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MEDCHAMPS objective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http://www.birzeit.edu/files/la/17240/pic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125280" y="-200160"/>
            <a:ext cx="9262800" cy="7058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Situation analysis (1)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TextBox 3"/>
          <p:cNvSpPr/>
          <p:nvPr/>
        </p:nvSpPr>
        <p:spPr>
          <a:xfrm>
            <a:off x="5334120" y="406872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Barri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160020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servic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5"/>
          <p:cNvSpPr/>
          <p:nvPr/>
        </p:nvSpPr>
        <p:spPr>
          <a:xfrm>
            <a:off x="1600200" y="4383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belief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6"/>
          <p:cNvSpPr/>
          <p:nvPr/>
        </p:nvSpPr>
        <p:spPr>
          <a:xfrm>
            <a:off x="5181480" y="2279520"/>
            <a:ext cx="1905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outco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TextBox 7"/>
          <p:cNvSpPr/>
          <p:nvPr/>
        </p:nvSpPr>
        <p:spPr>
          <a:xfrm>
            <a:off x="3581280" y="22860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lu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3352680" y="3800520"/>
            <a:ext cx="160020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Qualitative data from key stakeholde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TextBox 9"/>
          <p:cNvSpPr/>
          <p:nvPr/>
        </p:nvSpPr>
        <p:spPr>
          <a:xfrm>
            <a:off x="5334120" y="3429000"/>
            <a:ext cx="1676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10"/>
          <p:cNvSpPr/>
          <p:nvPr/>
        </p:nvSpPr>
        <p:spPr>
          <a:xfrm>
            <a:off x="1600200" y="247824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Health polic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11"/>
          <p:cNvSpPr/>
          <p:nvPr/>
        </p:nvSpPr>
        <p:spPr>
          <a:xfrm>
            <a:off x="5334120" y="4724280"/>
            <a:ext cx="167616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70c0"/>
                </a:solidFill>
                <a:latin typeface="Arial"/>
              </a:rPr>
              <a:t>Opportunities for implementing chang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12"/>
          <p:cNvSpPr/>
          <p:nvPr/>
        </p:nvSpPr>
        <p:spPr>
          <a:xfrm>
            <a:off x="7391520" y="3790800"/>
            <a:ext cx="1523880" cy="91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Informs policy op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152280" y="3429000"/>
            <a:ext cx="114300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99"/>
                </a:solidFill>
                <a:latin typeface="Arial"/>
              </a:rPr>
              <a:t>Analysis o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Left Brace 15"/>
          <p:cNvSpPr/>
          <p:nvPr/>
        </p:nvSpPr>
        <p:spPr>
          <a:xfrm>
            <a:off x="1295280" y="2819520"/>
            <a:ext cx="304920" cy="1904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7920 h 1904760"/>
              <a:gd name="textAreaBottom" fmla="*/ 189684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4"/>
                  <a:pt x="10800" y="288"/>
                </a:cubicBezTo>
                <a:lnTo>
                  <a:pt x="10800" y="10512"/>
                </a:lnTo>
                <a:cubicBezTo>
                  <a:pt x="10800" y="10656"/>
                  <a:pt x="5400" y="10800"/>
                  <a:pt x="0" y="10800"/>
                </a:cubicBezTo>
                <a:cubicBezTo>
                  <a:pt x="5400" y="10800"/>
                  <a:pt x="10800" y="10944"/>
                  <a:pt x="10800" y="11088"/>
                </a:cubicBezTo>
                <a:lnTo>
                  <a:pt x="10800" y="21312"/>
                </a:lnTo>
                <a:cubicBezTo>
                  <a:pt x="10800" y="2145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83" name="Straight Arrow Connector 17"/>
          <p:cNvCxnSpPr>
            <a:endCxn id="375" idx="1"/>
          </p:cNvCxnSpPr>
          <p:nvPr/>
        </p:nvCxnSpPr>
        <p:spPr>
          <a:xfrm flipV="1">
            <a:off x="3047760" y="2469600"/>
            <a:ext cx="533880" cy="4258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384" name="Straight Arrow Connector 20"/>
          <p:cNvCxnSpPr>
            <a:stCxn id="375" idx="3"/>
            <a:endCxn id="374" idx="1"/>
          </p:cNvCxnSpPr>
          <p:nvPr/>
        </p:nvCxnSpPr>
        <p:spPr>
          <a:xfrm flipV="1">
            <a:off x="4724280" y="2463480"/>
            <a:ext cx="457920" cy="7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5" name="Elbow Connector 25"/>
          <p:cNvCxnSpPr>
            <a:stCxn id="376" idx="3"/>
            <a:endCxn id="379" idx="1"/>
          </p:cNvCxnSpPr>
          <p:nvPr/>
        </p:nvCxnSpPr>
        <p:spPr>
          <a:xfrm>
            <a:off x="4952520" y="4262400"/>
            <a:ext cx="381960" cy="10627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6" name="Elbow Connector 28"/>
          <p:cNvCxnSpPr>
            <a:stCxn id="376" idx="3"/>
            <a:endCxn id="377" idx="1"/>
          </p:cNvCxnSpPr>
          <p:nvPr/>
        </p:nvCxnSpPr>
        <p:spPr>
          <a:xfrm flipV="1">
            <a:off x="4952520" y="3612600"/>
            <a:ext cx="381960" cy="6498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7" name="Elbow Connector 31"/>
          <p:cNvCxnSpPr/>
          <p:nvPr/>
        </p:nvCxnSpPr>
        <p:spPr>
          <a:xfrm flipV="1">
            <a:off x="4952520" y="4242600"/>
            <a:ext cx="381960" cy="1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8" name="Elbow Connector 34"/>
          <p:cNvCxnSpPr>
            <a:stCxn id="377" idx="3"/>
            <a:endCxn id="380" idx="1"/>
          </p:cNvCxnSpPr>
          <p:nvPr/>
        </p:nvCxnSpPr>
        <p:spPr>
          <a:xfrm>
            <a:off x="7009920" y="3612960"/>
            <a:ext cx="381960" cy="6404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9" name="Elbow Connector 37"/>
          <p:cNvCxnSpPr>
            <a:stCxn id="379" idx="3"/>
            <a:endCxn id="380" idx="1"/>
          </p:cNvCxnSpPr>
          <p:nvPr/>
        </p:nvCxnSpPr>
        <p:spPr>
          <a:xfrm flipV="1">
            <a:off x="7009920" y="4252680"/>
            <a:ext cx="381960" cy="1072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Elbow Connector 40"/>
          <p:cNvCxnSpPr>
            <a:stCxn id="371" idx="3"/>
            <a:endCxn id="380" idx="1"/>
          </p:cNvCxnSpPr>
          <p:nvPr/>
        </p:nvCxnSpPr>
        <p:spPr>
          <a:xfrm flipV="1">
            <a:off x="7009920" y="4252320"/>
            <a:ext cx="381960" cy="10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1" name="Elbow Connector 46"/>
          <p:cNvCxnSpPr>
            <a:stCxn id="378" idx="3"/>
            <a:endCxn id="376" idx="1"/>
          </p:cNvCxnSpPr>
          <p:nvPr/>
        </p:nvCxnSpPr>
        <p:spPr>
          <a:xfrm>
            <a:off x="2742840" y="2800080"/>
            <a:ext cx="610200" cy="14626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2" name="Elbow Connector 49"/>
          <p:cNvCxnSpPr>
            <a:stCxn id="373" idx="3"/>
            <a:endCxn id="376" idx="1"/>
          </p:cNvCxnSpPr>
          <p:nvPr/>
        </p:nvCxnSpPr>
        <p:spPr>
          <a:xfrm flipV="1">
            <a:off x="2742840" y="4262040"/>
            <a:ext cx="610200" cy="443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3" name="Elbow Connector 53"/>
          <p:cNvCxnSpPr>
            <a:stCxn id="372" idx="3"/>
            <a:endCxn id="376" idx="1"/>
          </p:cNvCxnSpPr>
          <p:nvPr/>
        </p:nvCxnSpPr>
        <p:spPr>
          <a:xfrm>
            <a:off x="2742840" y="3752640"/>
            <a:ext cx="610200" cy="510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4" name="Title 1"/>
          <p:cNvSpPr/>
          <p:nvPr/>
        </p:nvSpPr>
        <p:spPr>
          <a:xfrm>
            <a:off x="457200" y="838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70c0"/>
                </a:solidFill>
                <a:latin typeface="Arial"/>
              </a:rPr>
              <a:t>Translating recommended interventions to different cultural sett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Objectives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Using established schematic frameworks of potentially effective policy measures and health system interventions for the prevention of CVD and Type 2 diabetes in order to guide data collection and analysi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Identify, collating and systematically reviewing all relevant documentary materials on policies and health services provis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53440" indent="-25344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National situation analysis of current policy and health systems contex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perception and knowledge of relevant national policies through interviews with key informant from relevant organisations, including government, the health sector, private sector and non governmental organizations (including patient group)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35680" indent="-2538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Exploring health beliefs with potential target groups, and determining whether these differ by population group.  Including by gender and socio economic group.   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Content Placeholder 3" descr=""/>
          <p:cNvPicPr/>
          <p:nvPr/>
        </p:nvPicPr>
        <p:blipFill>
          <a:blip r:embed="rId1"/>
          <a:stretch/>
        </p:blipFill>
        <p:spPr>
          <a:xfrm>
            <a:off x="324000" y="2676600"/>
            <a:ext cx="8648640" cy="34495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00"/>
                </a:solidFill>
                <a:latin typeface="Candara"/>
              </a:rPr>
              <a:t>What does a health policy analysis involve?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A. Situation analyses of current policy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National/Regional/District overview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B. Health system contexts: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73e87"/>
                </a:solidFill>
                <a:latin typeface="Candara"/>
              </a:rPr>
              <a:t>Local orientation alongside the national orientation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ndara"/>
              </a:rPr>
              <a:t>Two focuses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ffffff"/>
                </a:solidFill>
                <a:latin typeface="Candara"/>
              </a:rPr>
              <a:t>The project therefore envisages appraising existing situations in partner countries on three different levels: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3" name="Diagram 2" descr=""/>
          <p:cNvPicPr/>
          <p:nvPr/>
        </p:nvPicPr>
        <p:blipFill>
          <a:blip r:embed="rId1"/>
          <a:stretch/>
        </p:blipFill>
        <p:spPr>
          <a:xfrm>
            <a:off x="66600" y="1395360"/>
            <a:ext cx="908388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48156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1: Situation on the level of conceptualiz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Diagram 1" descr=""/>
          <p:cNvPicPr/>
          <p:nvPr/>
        </p:nvPicPr>
        <p:blipFill>
          <a:blip r:embed="rId1"/>
          <a:stretch/>
        </p:blipFill>
        <p:spPr>
          <a:xfrm>
            <a:off x="249120" y="1908000"/>
            <a:ext cx="872352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871560" y="2349360"/>
            <a:ext cx="740880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national policies, strategies, health systems and  financing concerning CVD and diabetes, including policy relevant to smoking, diet, physical activity and alcohol use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Relevant documents on pricing and taxation, agricultural and transport policies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Documentary materials on policies regarding national and local health service provisions, prescribing , prevention and risk factor management.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73e87"/>
                </a:solidFill>
                <a:latin typeface="Candara"/>
              </a:rPr>
              <a:t>National and international guidelines on policy measures and health care structures and interventions developed by WHO, World Bank, World Heart Foundation, International Diabetes Care Interventions.  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Document analysi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547040" cy="347508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2: Situation on the level of Awareness and Commitment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Implementers and practitioners from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Government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rivate sector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NGOs at national, regional, provincial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ommunity level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:    Key informant interviews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Content Placeholder 3" descr=""/>
          <p:cNvPicPr/>
          <p:nvPr/>
        </p:nvPicPr>
        <p:blipFill>
          <a:blip r:embed="rId1"/>
          <a:stretch/>
        </p:blipFill>
        <p:spPr>
          <a:xfrm>
            <a:off x="804960" y="2651040"/>
            <a:ext cx="7480080" cy="35370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andara"/>
              </a:rPr>
              <a:t>Level 3: Situation on the level of practi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Patient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73e87"/>
                </a:solidFill>
                <a:latin typeface="Candara"/>
              </a:rPr>
              <a:t>Care givers, medical practitioners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73e87"/>
                </a:solidFill>
                <a:latin typeface="Candara"/>
              </a:rPr>
              <a:t>Accessed through sample of health care facilities in (a) urban and (b) rural settings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Method : In depth interviews, Illness narratives, Observations</a:t>
            </a: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ndara"/>
              </a:rPr>
              <a:t>Source of information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Merson, M., Black, R., Mills, A. (Eds) (2012) Global Health: Diseases, Programs, Systems and Policies.  London: Jones &amp; Bartlett Publisher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Ostrom, E. (2007) Institutional rational choice: as assessment of the institutional analysis and development framework. In Sabatier PA (ed)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Theories of the policy process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. Boulder, CO Westview Press pp 21-64. 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Walt, G. et al.  (2008) Doing’ health policy analysis: methodological and conceptual reflections and challenges.  </a:t>
            </a:r>
            <a:r>
              <a:rPr b="0" i="1" lang="en-GB" sz="1800" spc="-1" strike="noStrike">
                <a:solidFill>
                  <a:srgbClr val="073e87"/>
                </a:solidFill>
                <a:latin typeface="Candara"/>
              </a:rPr>
              <a:t>Health Policy and Planning </a:t>
            </a:r>
            <a:r>
              <a:rPr b="0" lang="en-GB" sz="1800" spc="-1" strike="noStrike">
                <a:solidFill>
                  <a:srgbClr val="073e87"/>
                </a:solidFill>
                <a:latin typeface="Candara"/>
              </a:rPr>
              <a:t>23:308–317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Reference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Diagram 1" descr=""/>
          <p:cNvPicPr/>
          <p:nvPr/>
        </p:nvPicPr>
        <p:blipFill>
          <a:blip r:embed="rId1"/>
          <a:stretch/>
        </p:blipFill>
        <p:spPr>
          <a:xfrm>
            <a:off x="12600" y="115920"/>
            <a:ext cx="903456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Content Placeholder 3" descr=""/>
          <p:cNvPicPr/>
          <p:nvPr/>
        </p:nvPicPr>
        <p:blipFill>
          <a:blip r:embed="rId1"/>
          <a:stretch/>
        </p:blipFill>
        <p:spPr>
          <a:xfrm>
            <a:off x="865080" y="1914480"/>
            <a:ext cx="7425000" cy="421164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Conceptual frameworks provide a particular perspective, or lens, through which to examine a topic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Frameworks organize inquiry by identifying elements and relationships among elements that needs to be considered for theory building. </a:t>
            </a:r>
            <a:r>
              <a:rPr b="0" i="1" lang="en-GB" sz="2400" spc="-1" strike="noStrike">
                <a:solidFill>
                  <a:srgbClr val="073e87"/>
                </a:solidFill>
                <a:latin typeface="Candara"/>
              </a:rPr>
              <a:t>( Ostrom 2007)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Health policy framework helps to contextualize the ‘</a:t>
            </a:r>
            <a:r>
              <a:rPr b="0" lang="en-GB" sz="2400" spc="-1" strike="noStrike">
                <a:solidFill>
                  <a:srgbClr val="ff0000"/>
                </a:solidFill>
                <a:latin typeface="Candara"/>
              </a:rPr>
              <a:t>health policy environment.’</a:t>
            </a:r>
            <a:r>
              <a:rPr b="0" lang="en-GB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Content Placeholder 4" descr=""/>
          <p:cNvPicPr/>
          <p:nvPr/>
        </p:nvPicPr>
        <p:blipFill>
          <a:blip r:embed="rId1"/>
          <a:stretch/>
        </p:blipFill>
        <p:spPr>
          <a:xfrm>
            <a:off x="450720" y="1116000"/>
            <a:ext cx="8248680" cy="55659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Three major health policy analysis frameworks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Content Placeholder 3" descr=""/>
          <p:cNvPicPr/>
          <p:nvPr/>
        </p:nvPicPr>
        <p:blipFill>
          <a:blip r:embed="rId1"/>
          <a:stretch/>
        </p:blipFill>
        <p:spPr>
          <a:xfrm>
            <a:off x="914400" y="1407960"/>
            <a:ext cx="7772400" cy="47070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ndara"/>
              </a:rPr>
              <a:t>Policy Triangle Framework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6T14:26:51Z</dcterms:created>
  <dc:creator>nsz4</dc:creator>
  <dc:description/>
  <dc:language>en-US</dc:language>
  <cp:lastModifiedBy>User</cp:lastModifiedBy>
  <cp:lastPrinted>2013-05-28T10:45:51Z</cp:lastPrinted>
  <dcterms:modified xsi:type="dcterms:W3CDTF">2013-05-31T23:38:47Z</dcterms:modified>
  <cp:revision>21</cp:revision>
  <dc:subject/>
  <dc:title>Health Policy Analysis Framework</dc:title>
</cp:coreProperties>
</file>